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73BF-E6C6-40BD-B193-01C31E91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AA47-3E02-485F-95EF-D8EFD2F2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481E-E378-453E-A632-430A5E4E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E723-3F18-4661-8F28-FAF923A8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99BA-112D-4B60-AAB2-B08EF26D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373C-05EB-494F-8870-5F5F80D6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110D-F150-4375-A1CD-C72F14F0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6BBB-12AE-41E0-80CE-44329A37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C610-3CE8-42B0-A98D-7196DFC9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F683-030D-49E3-9AFE-70110358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C07C-0954-4B9D-82E1-4222D2C5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3994-CB73-4DED-9235-4AD514F8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DE5A-D547-43B4-B548-2171B725F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iterary devi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Jay, Liz and S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78000" y="812880"/>
            <a:ext cx="559764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mic Sans MS"/>
              </a:rPr>
              <a:t>If you wrote a poem about this fish, what words would you use to describe it?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35240" y="2743200"/>
            <a:ext cx="5699160" cy="3500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867800" y="6197760"/>
            <a:ext cx="1693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-Liz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0720" y="411120"/>
            <a:ext cx="78091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mic Sans MS"/>
              </a:rPr>
              <a:t>In the poem "The Fish" by Elizabeth Bishop, the author uses literary devices such as metaphor, simile, and personification to describe her feelings when she caught a fish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95880" y="4775040"/>
            <a:ext cx="3441960" cy="2362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4360" y="2743200"/>
            <a:ext cx="6002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"His brown skin hung in strips like ancient wallpaper."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"Shapes like full blown roses stained and lost through age.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85960" y="6299280"/>
            <a:ext cx="23972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-Liz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365120" y="517680"/>
            <a:ext cx="519588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mic Sans MS"/>
              </a:rPr>
              <a:t>What is an extended metaphor? 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04720" y="2944800"/>
            <a:ext cx="3378240" cy="2577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095880" y="1320840"/>
            <a:ext cx="2824200" cy="2509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14760" y="4162320"/>
            <a:ext cx="5203800" cy="20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's a metaphor that continues into the context that follows. It is often developed at great length, occurring frequently in or throughout a work, and is effective in poems and short sto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68520" y="5892840"/>
            <a:ext cx="15937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-Liz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0920" y="309600"/>
            <a:ext cx="9218520" cy="24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mic Sans MS"/>
              </a:rPr>
              <a:t>Extended metaphor: Allegor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llegory is a figurative method of representation conveying meaning other than the litera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          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Can you think of an allegoric story?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689440" y="3657600"/>
            <a:ext cx="2400480" cy="3378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117440" y="3962520"/>
            <a:ext cx="3124440" cy="1917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381400" y="6299280"/>
            <a:ext cx="1693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-Liz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What are  literary devices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0720" y="1320480"/>
            <a:ext cx="8691840" cy="57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3500" spc="-1" strike="noStrike">
                <a:solidFill>
                  <a:srgbClr val="ffffff"/>
                </a:solidFill>
                <a:latin typeface="'Comic Sans MS'"/>
              </a:rPr>
              <a:t>Literary devices: “Tools” that make writing more beautiful, meaningful, and enjoyable to read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3500" spc="-1" strike="noStrike">
                <a:solidFill>
                  <a:srgbClr val="ffffff"/>
                </a:solidFill>
                <a:latin typeface="'Comic Sans MS'"/>
              </a:rPr>
              <a:t>Metaphors, similes, and personification are the three most common literary devic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9075240" y="7303680"/>
            <a:ext cx="862200" cy="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4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45080" y="6603840"/>
            <a:ext cx="35863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. Pannabeck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14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Metaphor and Simi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7320" y="1218960"/>
            <a:ext cx="4575240" cy="628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</a:t>
            </a:r>
            <a:r>
              <a:rPr b="0" lang="en-US" sz="3200" spc="-1" strike="noStrike">
                <a:solidFill>
                  <a:srgbClr val="ffffff"/>
                </a:solidFill>
                <a:latin typeface="'Comic Sans MS'"/>
              </a:rPr>
              <a:t>use a tangible thing to describe something abst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'Comic Sans MS'"/>
              </a:rPr>
              <a:t>Metaphors say that</a:t>
            </a:r>
            <a:r>
              <a:rPr b="0" lang="en-US" sz="2400" spc="-1" strike="noStrike">
                <a:solidFill>
                  <a:srgbClr val="000000"/>
                </a:solidFill>
                <a:latin typeface="'Comic Sans MS'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'Comic Sans MS'"/>
              </a:rPr>
              <a:t>one thing </a:t>
            </a:r>
            <a:r>
              <a:rPr b="0" i="1" lang="en-US" sz="2400" spc="-1" strike="noStrike">
                <a:solidFill>
                  <a:srgbClr val="ffffff"/>
                </a:solidFill>
                <a:latin typeface="'Comic Sans MS'"/>
              </a:rPr>
              <a:t>is</a:t>
            </a:r>
            <a:r>
              <a:rPr b="0" lang="en-US" sz="2400" spc="-1" strike="noStrike">
                <a:solidFill>
                  <a:srgbClr val="ffffff"/>
                </a:solidFill>
                <a:latin typeface="'Comic Sans MS'"/>
              </a:rPr>
              <a:t> another thing. For example:  No man is an island.</a:t>
            </a:r>
            <a:r>
              <a:rPr b="0" lang="en-US" sz="2400" spc="-1" strike="noStrike">
                <a:solidFill>
                  <a:srgbClr val="000000"/>
                </a:solidFill>
                <a:latin typeface="'Comic Sans MS'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'Comic Sans MS'"/>
              </a:rPr>
              <a:t>Similes make an an explicit comparison using </a:t>
            </a:r>
            <a:r>
              <a:rPr b="0" i="1" lang="en-US" sz="2400" spc="-1" strike="noStrike">
                <a:solidFill>
                  <a:srgbClr val="ffffff"/>
                </a:solidFill>
                <a:latin typeface="'Comic Sans MS'"/>
              </a:rPr>
              <a:t>like</a:t>
            </a:r>
            <a:r>
              <a:rPr b="0" lang="en-US" sz="2400" spc="-1" strike="noStrike">
                <a:solidFill>
                  <a:srgbClr val="ffffff"/>
                </a:solidFill>
                <a:latin typeface="'Comic Sans MS'"/>
              </a:rPr>
              <a:t> or </a:t>
            </a:r>
            <a:r>
              <a:rPr b="0" i="1" lang="en-US" sz="2400" spc="-1" strike="noStrike">
                <a:solidFill>
                  <a:srgbClr val="ffffff"/>
                </a:solidFill>
                <a:latin typeface="'Comic Sans MS'"/>
              </a:rPr>
              <a:t>as.</a:t>
            </a:r>
            <a:r>
              <a:rPr b="0" lang="en-US" sz="2400" spc="-1" strike="noStrike">
                <a:solidFill>
                  <a:srgbClr val="ffffff"/>
                </a:solidFill>
                <a:latin typeface="'Comic Sans MS'"/>
              </a:rPr>
              <a:t> Ex:  Reality will hit him like a ton of brick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278640" y="7318080"/>
            <a:ext cx="662040" cy="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3960" bIns="-3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481800" y="1185840"/>
            <a:ext cx="3314520" cy="3476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978440" y="3454560"/>
            <a:ext cx="3038400" cy="3801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054920" y="6502320"/>
            <a:ext cx="2765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. Pannabeck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0720" y="507600"/>
            <a:ext cx="916488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Personific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3500" spc="-1" strike="noStrike" u="sng">
                <a:solidFill>
                  <a:srgbClr val="ccccff"/>
                </a:solidFill>
                <a:uFillTx/>
                <a:latin typeface="Arial"/>
              </a:rPr>
              <a:t>song clip: That Lucky Old Su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7920" y="1836720"/>
            <a:ext cx="4593960" cy="54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ffffff"/>
                </a:solidFill>
                <a:latin typeface="'Comic Sans MS'"/>
              </a:rPr>
              <a:t>Giving human characteristics to inanimate thing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ffffff"/>
                </a:solidFill>
                <a:latin typeface="'Comic Sans MS'"/>
              </a:rPr>
              <a:t>Used to create attachment between reader and thing, point our irony, cast blame, and other connections people have with each oth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ffffff"/>
                </a:solidFill>
                <a:latin typeface="'Comic Sans MS'"/>
              </a:rPr>
              <a:t>Ex: Ray Charles’ song “That Lucky Old Sun”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440" y="6684840"/>
            <a:ext cx="33163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. pannabeck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560"/>
            <a:ext cx="966456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Using Literary Devices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5800" y="1117080"/>
            <a:ext cx="4592520" cy="65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IN Writing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ffffff"/>
                </a:solidFill>
                <a:latin typeface="'Comic Sans MS'"/>
              </a:rPr>
              <a:t>Use to enhance reader’s understand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ffffff"/>
                </a:solidFill>
                <a:latin typeface="'Comic Sans MS'"/>
              </a:rPr>
              <a:t>Makes a story, poem or song more enjoyable to read or listen t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ffffff"/>
                </a:solidFill>
                <a:latin typeface="'Comic Sans MS'"/>
              </a:rPr>
              <a:t>Helps the reader expand his current ways of thinking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100" spc="-1" strike="noStrike">
                <a:solidFill>
                  <a:srgbClr val="ffffff"/>
                </a:solidFill>
                <a:latin typeface="'Comic Sans MS'"/>
              </a:rPr>
              <a:t>Did you ever think to be envious of the sun, as Ray Charles i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4400" y="1363320"/>
            <a:ext cx="4576680" cy="78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IN Speech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ffffff"/>
                </a:solidFill>
                <a:latin typeface="'Comic Sans MS'"/>
              </a:rPr>
              <a:t>Often make people more confus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ffffff"/>
                </a:solidFill>
                <a:latin typeface="'Comic Sans MS'"/>
              </a:rPr>
              <a:t>Phrases we don’t give a second thought to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100" spc="-1" strike="noStrike">
                <a:solidFill>
                  <a:srgbClr val="ffffff"/>
                </a:solidFill>
                <a:latin typeface="'Comic Sans MS'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'Comic Sans MS'"/>
              </a:rPr>
              <a:t>take a walk” (comparing the act of walking to. . . a pill? A gift?) </a:t>
            </a:r>
            <a:r>
              <a:rPr b="1" i="1" lang="en-US" sz="2100" spc="-1" strike="noStrike">
                <a:solidFill>
                  <a:srgbClr val="ffffff"/>
                </a:solidFill>
                <a:latin typeface="'Comic Sans MS'"/>
              </a:rPr>
              <a:t>How do you describe the act of walking in Spanish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100" spc="-1" strike="noStrike">
                <a:solidFill>
                  <a:srgbClr val="ffffff"/>
                </a:solidFill>
                <a:latin typeface="'Comic Sans MS'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'Comic Sans MS'"/>
              </a:rPr>
              <a:t>the new paint is growing on me” (can paint grow? And is it actually </a:t>
            </a:r>
            <a:r>
              <a:rPr b="0" i="1" lang="en-US" sz="2100" spc="-1" strike="noStrike">
                <a:solidFill>
                  <a:srgbClr val="ffffff"/>
                </a:solidFill>
                <a:latin typeface="'Comic Sans MS'"/>
              </a:rPr>
              <a:t>growing on </a:t>
            </a:r>
            <a:r>
              <a:rPr b="0" lang="en-US" sz="2100" spc="-1" strike="noStrike">
                <a:solidFill>
                  <a:srgbClr val="ffffff"/>
                </a:solidFill>
                <a:latin typeface="'Comic Sans MS'"/>
              </a:rPr>
              <a:t>you?) 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53400" y="6999120"/>
            <a:ext cx="2773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. Pannabeck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6705360"/>
            <a:ext cx="9664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40160" y="2336760"/>
            <a:ext cx="5014800" cy="4962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3520" y="406440"/>
            <a:ext cx="89247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"What are you looking at?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down 3 different words describing the picture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75760" y="6400800"/>
            <a:ext cx="595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Ja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6705360"/>
            <a:ext cx="9664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540160" y="2336760"/>
            <a:ext cx="5014800" cy="4962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520" y="403200"/>
            <a:ext cx="8853480" cy="14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mic Sans MS"/>
              </a:rPr>
              <a:t>What if I asked,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mic Sans MS"/>
              </a:rPr>
              <a:t>"</a:t>
            </a:r>
            <a:r>
              <a:rPr b="1" i="1" lang="en-US" sz="3700" spc="-1" strike="noStrike" u="sng">
                <a:solidFill>
                  <a:srgbClr val="ffffff"/>
                </a:solidFill>
                <a:uFillTx/>
                <a:latin typeface="Comic Sans MS"/>
              </a:rPr>
              <a:t>Who</a:t>
            </a:r>
            <a:r>
              <a:rPr b="0" lang="en-US" sz="3700" spc="-1" strike="noStrike">
                <a:solidFill>
                  <a:srgbClr val="ffffff"/>
                </a:solidFill>
                <a:latin typeface="Comic Sans MS"/>
              </a:rPr>
              <a:t> are you looking at?"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down 3 new words describing the picture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63080" y="6491160"/>
            <a:ext cx="15699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Ja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108320" y="4572000"/>
            <a:ext cx="4921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 is personification used to enrich langua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1000" y="289080"/>
            <a:ext cx="942804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 u="sng">
                <a:solidFill>
                  <a:srgbClr val="00ff00"/>
                </a:solidFill>
                <a:uFillTx/>
                <a:latin typeface="Comic Sans MS"/>
              </a:rPr>
              <a:t>Personification</a:t>
            </a:r>
            <a:r>
              <a:rPr b="1" i="1" lang="en-US" sz="3500" spc="-1" strike="noStrike">
                <a:solidFill>
                  <a:srgbClr val="ffffff"/>
                </a:solidFill>
                <a:latin typeface="Comic Sans MS"/>
              </a:rPr>
              <a:t> is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he act of giving inanimate objects or abstract notions </a:t>
            </a:r>
            <a:r>
              <a:rPr b="1" lang="en-US" sz="2700" spc="-1" strike="noStrike">
                <a:solidFill>
                  <a:srgbClr val="ffffff"/>
                </a:solidFill>
                <a:latin typeface="Comic Sans MS"/>
              </a:rPr>
              <a:t>human qualities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4120" y="2844720"/>
            <a:ext cx="471636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For example: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Mother Ear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                     </a:t>
            </a:r>
            <a:r>
              <a:rPr b="0" lang="en-US" sz="2700" spc="-1" strike="noStrike">
                <a:solidFill>
                  <a:srgbClr val="00ffff"/>
                </a:solidFill>
                <a:latin typeface="Comic Sans MS"/>
              </a:rPr>
              <a:t>Father Ti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                             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40600" y="6486480"/>
            <a:ext cx="2162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-Ja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33720" y="711360"/>
            <a:ext cx="5370480" cy="5902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52600" y="6603840"/>
            <a:ext cx="901224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Comic Sans MS"/>
              </a:rPr>
              <a:t>http://www.youtube.com/watch?v=1TZCP6OqR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61160" y="4975200"/>
            <a:ext cx="16178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-Ja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